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0E3-6194-42C0-A7BB-904B030D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AE8-7270-46DB-B1FE-12BCCAB6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2C8-2F69-4F81-999C-5AD01040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4EA-5985-4787-8F23-33E51BEE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39B-75AC-4F60-A7A7-79A06FAB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686-8032-4309-BED4-0F0D15F0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32A-7E7D-49D7-B21E-BEDB2A6B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4BB-3133-4FE4-A194-5415DCA2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8C9-7772-4CF3-A0D9-C21A3B41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639-8804-4312-B3C6-D2F6AB4D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BC6-7DF1-4173-9D4C-A29E1AD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B17-985D-42E0-96C0-8A475D76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805A-531F-4A70-989A-D14F763575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7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15" name="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18" name="ww1main" descr="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9" name="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24" name="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5" name="300px-WW2_TitlePicture_For_Wikipedia_Article" descr="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27" name="yourcountryneedsyou" descr="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8" name="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33" name="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4" name="263831~Queen-Elizabeth-II-Posters" descr="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7" name="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2" name="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0" name="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1" name="Battle_of_Hastings_Double_Take" descr=""/>
            <p:cNvPicPr/>
            <p:nvPr/>
          </p:nvPicPr>
          <p:blipFill>
            <a:blip r:embed="rId2"/>
            <a:srcRect l="0" t="11305" r="0" b="7309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63" name="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4" name="ap12" descr="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66" name="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7" name="shakespeare" descr="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69" name="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0" name="sep2_great_fire4" descr="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2" name="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3" name="LIMCOM_16647_v1_m56577569830549020" descr="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75" name="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6" name="abolition3d" descr="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78" name="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9" name="scan0003" descr=""/>
            <p:cNvPicPr/>
            <p:nvPr/>
          </p:nvPicPr>
          <p:blipFill>
            <a:blip r:embed="rId8"/>
            <a:srcRect l="0" t="0" r="0" b="3447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1" name="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2" name="ww1main" descr="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84" name="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5" name="yourcountryneedsyou" descr="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49" name="Battle_of_Hastings_Double_Take" descr="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0" name="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2" name="1066_tapestry_harolds_coronation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3" name="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59" name="ap12" descr="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2" name="Henry%20Gilbert%20-%20Robin%20Hood" descr="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68" name="shakespeare" descr="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9" name="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1" name="columbus" descr="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2" name="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78" name="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79" name="guyfawkes" descr="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1" name="sep2_great_fire4" descr="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2" name="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88" name="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9" name="i_nsw_72_1770_poster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1" name="LIMCOM_16647_v1_m56577569830549020" descr="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2" name="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97" name="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8" name="slavery" descr="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0" name="abolition3d" descr="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06" name="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7" name="scan0003" descr="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09" name="T0829E00" descr="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0" name="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 </cp:lastModifiedBy>
  <dcterms:modified xsi:type="dcterms:W3CDTF">2008-12-14T14:22:57Z</dcterms:modified>
  <cp:revision>41</cp:revision>
  <dc:subject/>
  <dc:title>British History</dc:title>
</cp:coreProperties>
</file>